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42C9-3C50-4BD1-9E7E-6EF2F35E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9531-B49C-4A5F-BC7C-87F533BE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C082-865C-46B1-8882-E5DE1300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02DC-0F49-407D-A1EE-DE52723F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8E77-45F6-4514-B6FB-874459A6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64E3-2D65-4BBA-AE85-D032BB85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D946-F06A-482B-B39C-8A61D4D4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76BA-CE5D-4AC1-B65E-A42B3B56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F14C-6F57-42B5-BFE7-4E69FB74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7C91-26B0-4F6E-A7ED-4BEAE70C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DF06-0029-4016-ACFA-97975167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9D8B-EA93-4F92-953C-5CE25643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H01926J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00640" y="6019560"/>
            <a:ext cx="685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3E95-A3EB-4857-8003-680995D5668D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PH01926J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ngelismarriti.it/ANGELISMARRITI-ENG/home-ENG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14.4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ushing Back the Ax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6483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llies defeat Germany and Italy by coordinating war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E55E-90DA-432B-988C-67DC4A2A428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 Island Ho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o take over specific islands in the Pacific in order to establish bases as close as possible to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llowed for airfields, docks,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. MacArthur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victory in the battle of Leyte Gulf,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naval battle in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mikazes implemented by Japan (15,000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7C51-12A5-4060-A4DE-719F8BE6A357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mika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Image:USS Bunker Hill hit by two Kamikazes.jpg"/>
          <p:cNvPicPr/>
          <p:nvPr/>
        </p:nvPicPr>
        <p:blipFill>
          <a:blip r:embed="rId1"/>
          <a:stretch/>
        </p:blipFill>
        <p:spPr>
          <a:xfrm>
            <a:off x="0" y="1063800"/>
            <a:ext cx="838188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5D3A-E03C-4895-AC3C-642FAC2CEFDC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mage:Kamikaze zero.jpg"/>
          <p:cNvPicPr/>
          <p:nvPr/>
        </p:nvPicPr>
        <p:blipFill>
          <a:blip r:embed="rId1"/>
          <a:stretch/>
        </p:blipFill>
        <p:spPr>
          <a:xfrm>
            <a:off x="380880" y="27000"/>
            <a:ext cx="83822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963C-4B56-4D92-AC10-42B09371C8A5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. Dwight Eisenh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upreme Commander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-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9048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2"/>
          <p:cNvGrpSpPr/>
          <p:nvPr/>
        </p:nvGrpSpPr>
        <p:grpSpPr>
          <a:xfrm>
            <a:off x="1828800" y="1800360"/>
            <a:ext cx="5486400" cy="3170160"/>
            <a:chOff x="1828800" y="1800360"/>
            <a:chExt cx="5486400" cy="3170160"/>
          </a:xfrm>
        </p:grpSpPr>
        <p:sp>
          <p:nvSpPr>
            <p:cNvPr id="128" name="Rectangle 9"/>
            <p:cNvSpPr/>
            <p:nvPr/>
          </p:nvSpPr>
          <p:spPr>
            <a:xfrm>
              <a:off x="1828800" y="1800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>
              <a:off x="1828800" y="1800360"/>
              <a:ext cx="5486400" cy="31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11" descr="Photograph, The Supreme Allied Commander at 8th Infantry Division headquarters in Belgium, November 1944."/>
          <p:cNvPicPr/>
          <p:nvPr/>
        </p:nvPicPr>
        <p:blipFill>
          <a:blip r:embed="rId1"/>
          <a:stretch/>
        </p:blipFill>
        <p:spPr>
          <a:xfrm>
            <a:off x="3200400" y="1447920"/>
            <a:ext cx="344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28EF-61EA-493F-9371-9C3CD67E3989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.S. &amp; Britain Join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Pla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top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Germany defeated, then all three can concentrate o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Increase the # of bombs dropped on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6835-74B1-4880-BF55-487B302F8FB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Italian Campaign (19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 Italy from the              south in Sicily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solini captured and     executed; hung in tow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teu"/>
          <p:cNvPicPr/>
          <p:nvPr/>
        </p:nvPicPr>
        <p:blipFill>
          <a:blip r:embed="rId1"/>
          <a:stretch/>
        </p:blipFill>
        <p:spPr>
          <a:xfrm>
            <a:off x="6019920" y="0"/>
            <a:ext cx="3274920" cy="358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EISENHOWER-194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429000"/>
            <a:ext cx="2600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C914-F43E-4044-B6F4-2ACBD358B09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sicily-ship"/>
          <p:cNvPicPr/>
          <p:nvPr/>
        </p:nvPicPr>
        <p:blipFill>
          <a:blip r:embed="rId1"/>
          <a:stretch/>
        </p:blipFill>
        <p:spPr>
          <a:xfrm>
            <a:off x="228600" y="1371600"/>
            <a:ext cx="6651720" cy="4479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munitions cargo ship bombed by Germans; Italian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857A-E4B4-4B4E-B9BD-B56ABF8D753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 Landing in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D-Day: June 6, 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ay Allies invaded France; led by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. Eisen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Planned for 2 y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 Lead by Gen. Eisen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Bombed supply routes (ro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s, RR) for 6 wk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 2,500 killed (matter of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 Allowed Gen Patton and his m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Paris via St. 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4" descr="250px-Pattonphoto"/>
          <p:cNvPicPr/>
          <p:nvPr/>
        </p:nvPicPr>
        <p:blipFill>
          <a:blip r:embed="rId2"/>
          <a:stretch/>
        </p:blipFill>
        <p:spPr>
          <a:xfrm>
            <a:off x="6248520" y="4038480"/>
            <a:ext cx="2141280" cy="281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EISENHOWER-1945"/>
          <p:cNvPicPr/>
          <p:nvPr/>
        </p:nvPicPr>
        <p:blipFill>
          <a:blip r:embed="rId3"/>
          <a:stretch/>
        </p:blipFill>
        <p:spPr>
          <a:xfrm>
            <a:off x="6248520" y="762120"/>
            <a:ext cx="211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4481-76DD-4886-B1FD-E91FDCB24D95}" type="slidenum">
              <a:rPr b="0" lang="en-US" sz="2000" spc="-1" strike="noStrike">
                <a:solidFill>
                  <a:srgbClr val="ffffd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File:Eisenhower d-day.jpg"/>
          <p:cNvPicPr/>
          <p:nvPr/>
        </p:nvPicPr>
        <p:blipFill>
          <a:blip r:embed="rId1"/>
          <a:stretch/>
        </p:blipFill>
        <p:spPr>
          <a:xfrm>
            <a:off x="228600" y="1106640"/>
            <a:ext cx="7170840" cy="5751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. Eisenhower with D-Day troops; unconditional surren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48CC-97EE-41B8-9D3E-0A84DF410CEE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ving Private Ry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ing in Normand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F3A1-D717-483C-ABC4-39CCA629A20F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s surrendering at   St. 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t-lo"/>
          <p:cNvPicPr/>
          <p:nvPr/>
        </p:nvPicPr>
        <p:blipFill>
          <a:blip r:embed="rId1"/>
          <a:stretch/>
        </p:blipFill>
        <p:spPr>
          <a:xfrm>
            <a:off x="304920" y="1523880"/>
            <a:ext cx="6095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8F7F-5498-406C-B460-3B123C7871DA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POW’s in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arislib2"/>
          <p:cNvPicPr/>
          <p:nvPr/>
        </p:nvPicPr>
        <p:blipFill>
          <a:blip r:embed="rId1"/>
          <a:stretch/>
        </p:blipFill>
        <p:spPr>
          <a:xfrm>
            <a:off x="304920" y="1805040"/>
            <a:ext cx="62481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2:44:08Z</dcterms:created>
  <dc:creator> </dc:creator>
  <dc:description/>
  <dc:language>en-US</dc:language>
  <cp:lastModifiedBy>SUPER</cp:lastModifiedBy>
  <dcterms:modified xsi:type="dcterms:W3CDTF">2012-02-15T02:07:35Z</dcterms:modified>
  <cp:revision>24</cp:revision>
  <dc:subject/>
  <dc:title>PowerPoint Presentation</dc:title>
</cp:coreProperties>
</file>